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A62-1C0A-4A12-9AE5-BBA8FE50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2A4-4BE5-4BB5-A8BA-71BB80C2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CCB-1229-4D32-8511-0418D472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113-AC1E-4358-9722-34B2D1DF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112-9F8A-42B7-B11E-0E3D291E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8E2-CF40-4645-90D5-19EDA164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F50-525F-4980-9F72-A592482B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979-9386-4724-B113-173F1ABE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FFC-4D7E-4546-A82A-4FB869E2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7D4-953C-40DA-A799-DC32CC99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7A8-67B3-449E-921A-1D932238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C9E-F883-4AAF-8974-2004E89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BD79-2486-4A8E-869A-65C287B18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dict.cn/Oceania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49400" y="692280"/>
            <a:ext cx="7178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illion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[ˈmɪljən]   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illion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[ˈbɪljən]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十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panish    adj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pain          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exican    adj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exico       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6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0" y="5493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has the largest population in North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17520" y="1700280"/>
            <a:ext cx="80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population in the U.S. is much larger than any other country in North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8"/>
          <p:cNvGrpSpPr/>
          <p:nvPr/>
        </p:nvGrpSpPr>
        <p:grpSpPr>
          <a:xfrm>
            <a:off x="450720" y="2276640"/>
            <a:ext cx="7844040" cy="1512720"/>
            <a:chOff x="450720" y="2276640"/>
            <a:chExt cx="7844040" cy="1512720"/>
          </a:xfrm>
        </p:grpSpPr>
        <p:sp>
          <p:nvSpPr>
            <p:cNvPr id="110" name="直接连接符 9"/>
            <p:cNvSpPr/>
            <p:nvPr/>
          </p:nvSpPr>
          <p:spPr>
            <a:xfrm>
              <a:off x="4505760" y="2276640"/>
              <a:ext cx="3789000" cy="0"/>
            </a:xfrm>
            <a:prstGeom prst="line">
              <a:avLst/>
            </a:prstGeom>
            <a:ln w="63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1"/>
            <p:cNvSpPr/>
            <p:nvPr/>
          </p:nvSpPr>
          <p:spPr>
            <a:xfrm>
              <a:off x="450720" y="2780640"/>
              <a:ext cx="2127240" cy="0"/>
            </a:xfrm>
            <a:prstGeom prst="line">
              <a:avLst/>
            </a:prstGeom>
            <a:ln w="63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下箭头 13"/>
            <p:cNvSpPr/>
            <p:nvPr/>
          </p:nvSpPr>
          <p:spPr>
            <a:xfrm>
              <a:off x="1314720" y="2925000"/>
              <a:ext cx="332280" cy="864360"/>
            </a:xfrm>
            <a:prstGeom prst="downArrow">
              <a:avLst>
                <a:gd name="adj1" fmla="val 50000"/>
                <a:gd name="adj2" fmla="val 54194"/>
              </a:avLst>
            </a:prstGeom>
            <a:solidFill>
              <a:srgbClr val="bbe0e3"/>
            </a:solidFill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4"/>
          <p:cNvSpPr/>
          <p:nvPr/>
        </p:nvSpPr>
        <p:spPr>
          <a:xfrm>
            <a:off x="517680" y="3718080"/>
            <a:ext cx="25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 the larg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0" y="4365720"/>
            <a:ext cx="882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x is much taller than any other students in our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517680" y="5229360"/>
            <a:ext cx="49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x is the tallest in our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4C4C-5815-421E-A083-0A83465491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19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324000" y="1339920"/>
            <a:ext cx="8567640" cy="496872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 5"/>
          <p:cNvSpPr/>
          <p:nvPr/>
        </p:nvSpPr>
        <p:spPr>
          <a:xfrm>
            <a:off x="2340000" y="0"/>
            <a:ext cx="453564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Read and Mat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7"/>
          <p:cNvSpPr/>
          <p:nvPr/>
        </p:nvSpPr>
        <p:spPr>
          <a:xfrm>
            <a:off x="6432480" y="2924280"/>
            <a:ext cx="930240" cy="273672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0"/>
          <p:cNvSpPr/>
          <p:nvPr/>
        </p:nvSpPr>
        <p:spPr>
          <a:xfrm>
            <a:off x="6432480" y="3573360"/>
            <a:ext cx="930240" cy="208764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4"/>
          <p:cNvSpPr/>
          <p:nvPr/>
        </p:nvSpPr>
        <p:spPr>
          <a:xfrm>
            <a:off x="6500880" y="4221000"/>
            <a:ext cx="861840" cy="28764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2"/>
          <p:cNvSpPr/>
          <p:nvPr/>
        </p:nvSpPr>
        <p:spPr>
          <a:xfrm flipV="1">
            <a:off x="6432480" y="3284280"/>
            <a:ext cx="930240" cy="158436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8"/>
          <p:cNvSpPr/>
          <p:nvPr/>
        </p:nvSpPr>
        <p:spPr>
          <a:xfrm flipV="1">
            <a:off x="6432480" y="4508640"/>
            <a:ext cx="930240" cy="122544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9BF-8420-41BE-A089-1E86A4D421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1380960" y="189000"/>
            <a:ext cx="658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d and do the following task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0" y="112392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These three countries ________ about 24 million square kilo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North America has the largest population in the world. 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What is the population of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Canada is the farthest north. To the south of Canada is the United States. The U.S. is north of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973680" y="105264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84320" y="2514600"/>
            <a:ext cx="53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184320" y="3780000"/>
            <a:ext cx="85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 has a population of more than 315 m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17520" y="5661000"/>
            <a:ext cx="844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加拿大在最北部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在它的南部是美国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墨西哥在美国的南部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07B9-EF6E-4EB1-A7D5-3CC155A3A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37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rcRect l="0" t="4153" r="0" b="0"/>
          <a:stretch/>
        </p:blipFill>
        <p:spPr>
          <a:xfrm>
            <a:off x="0" y="1484280"/>
            <a:ext cx="88200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圆角矩形 5"/>
          <p:cNvSpPr/>
          <p:nvPr/>
        </p:nvSpPr>
        <p:spPr>
          <a:xfrm>
            <a:off x="-179280" y="0"/>
            <a:ext cx="9070920" cy="1224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mplete the passage with the correct forms of the words in the bo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915840" y="3718080"/>
            <a:ext cx="13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0" y="4292640"/>
            <a:ext cx="16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500880" y="4221000"/>
            <a:ext cx="13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3176640" y="486900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716040" y="537372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517680" y="595008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EFB9-F7CF-4BAA-B21B-E1A74FD67B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49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4"/>
          <p:cNvGrpSpPr/>
          <p:nvPr/>
        </p:nvGrpSpPr>
        <p:grpSpPr>
          <a:xfrm>
            <a:off x="0" y="476280"/>
            <a:ext cx="4905360" cy="3197160"/>
            <a:chOff x="0" y="476280"/>
            <a:chExt cx="4905360" cy="3197160"/>
          </a:xfrm>
        </p:grpSpPr>
        <p:pic>
          <p:nvPicPr>
            <p:cNvPr id="151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4905360" cy="31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12"/>
            <p:cNvSpPr/>
            <p:nvPr/>
          </p:nvSpPr>
          <p:spPr>
            <a:xfrm>
              <a:off x="251280" y="692280"/>
              <a:ext cx="4654080" cy="26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Task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troduce one of the three countries in North Ameri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5"/>
          <p:cNvGrpSpPr/>
          <p:nvPr/>
        </p:nvGrpSpPr>
        <p:grpSpPr>
          <a:xfrm>
            <a:off x="3840120" y="3139920"/>
            <a:ext cx="4986360" cy="3025800"/>
            <a:chOff x="3840120" y="3139920"/>
            <a:chExt cx="4986360" cy="3025800"/>
          </a:xfrm>
        </p:grpSpPr>
        <p:pic>
          <p:nvPicPr>
            <p:cNvPr id="154" name="Picture 5" descr=""/>
            <p:cNvPicPr/>
            <p:nvPr/>
          </p:nvPicPr>
          <p:blipFill>
            <a:blip r:embed="rId3"/>
            <a:stretch/>
          </p:blipFill>
          <p:spPr>
            <a:xfrm>
              <a:off x="3840120" y="3139920"/>
              <a:ext cx="498636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13"/>
            <p:cNvSpPr/>
            <p:nvPr/>
          </p:nvSpPr>
          <p:spPr>
            <a:xfrm>
              <a:off x="4105800" y="3499920"/>
              <a:ext cx="465408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Task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troduce other countries in North America you like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685-69F1-46E3-A735-D112C3045E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59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472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0" y="4653000"/>
            <a:ext cx="8964720" cy="1944720"/>
          </a:xfrm>
          <a:prstGeom prst="rect">
            <a:avLst/>
          </a:prstGeom>
          <a:ln w="0">
            <a:noFill/>
          </a:ln>
        </p:spPr>
      </p:pic>
      <p:sp>
        <p:nvSpPr>
          <p:cNvPr id="1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AC55-7230-4757-8044-2E187259C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65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标题 3"/>
          <p:cNvSpPr/>
          <p:nvPr/>
        </p:nvSpPr>
        <p:spPr>
          <a:xfrm>
            <a:off x="900000" y="620640"/>
            <a:ext cx="7499520" cy="777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alibri"/>
              </a:rPr>
              <a:t>Homework</a:t>
            </a:r>
            <a:r>
              <a:rPr b="1" i="1" lang="en-US" sz="2400" spc="-1" strike="noStrike">
                <a:solidFill>
                  <a:srgbClr val="5724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324000" y="1773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rite a report about the continent of the world interests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82560" y="3068640"/>
            <a:ext cx="7921800" cy="3313080"/>
          </a:xfrm>
          <a:prstGeom prst="rect">
            <a:avLst/>
          </a:prstGeom>
          <a:ln w="0">
            <a:noFill/>
          </a:ln>
        </p:spPr>
      </p:pic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EA72-D16D-4D94-AD91-C9949F8531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BSFX\Desktop\u=3527656168,3822754921&amp;fm=56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3441600" y="5589720"/>
            <a:ext cx="23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3A7D-9294-4AB3-9E70-0CC2F308D0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BSFX\Desktop\u=3578325182,1324972089&amp;fm=21&amp;gp=0.jpg"/>
          <p:cNvPicPr/>
          <p:nvPr/>
        </p:nvPicPr>
        <p:blipFill>
          <a:blip r:embed="rId1"/>
          <a:stretch/>
        </p:blipFill>
        <p:spPr>
          <a:xfrm>
            <a:off x="0" y="133992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979640" y="260280"/>
            <a:ext cx="491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Rocky Mount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9623-FE67-4263-96A3-11E435E97B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1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BSFX\Desktop\images.jpg"/>
          <p:cNvPicPr/>
          <p:nvPr/>
        </p:nvPicPr>
        <p:blipFill>
          <a:blip r:embed="rId2"/>
          <a:stretch/>
        </p:blipFill>
        <p:spPr>
          <a:xfrm>
            <a:off x="179280" y="189000"/>
            <a:ext cx="8783640" cy="5616360"/>
          </a:xfrm>
          <a:prstGeom prst="rect">
            <a:avLst/>
          </a:prstGeom>
          <a:ln cap="sq" w="12600">
            <a:solidFill>
              <a:srgbClr val="ffff00"/>
            </a:solidFill>
            <a:miter/>
          </a:ln>
        </p:spPr>
      </p:pic>
      <p:sp>
        <p:nvSpPr>
          <p:cNvPr id="53" name="TextBox 5"/>
          <p:cNvSpPr/>
          <p:nvPr/>
        </p:nvSpPr>
        <p:spPr>
          <a:xfrm>
            <a:off x="2124000" y="57340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World 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44A0-8211-412F-9D7B-F15382281F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7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750960" y="2924280"/>
            <a:ext cx="8273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many continents are there in th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orld?And what a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is the biggest one? Do you know more abou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9D63-0B68-48A0-BABB-5F0CAB27C7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62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538200" y="0"/>
            <a:ext cx="96822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BSFX\Desktop\u=490378130,3961207277&amp;fm=21&amp;gp=0.jpg"/>
          <p:cNvPicPr/>
          <p:nvPr/>
        </p:nvPicPr>
        <p:blipFill>
          <a:blip r:embed="rId2"/>
          <a:srcRect l="0" t="0" r="0" b="2579"/>
          <a:stretch/>
        </p:blipFill>
        <p:spPr>
          <a:xfrm>
            <a:off x="4772160" y="2924280"/>
            <a:ext cx="1798560" cy="216036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16"/>
          <p:cNvGrpSpPr/>
          <p:nvPr/>
        </p:nvGrpSpPr>
        <p:grpSpPr>
          <a:xfrm>
            <a:off x="317520" y="620640"/>
            <a:ext cx="2166840" cy="2003400"/>
            <a:chOff x="317520" y="620640"/>
            <a:chExt cx="2166840" cy="2003400"/>
          </a:xfrm>
        </p:grpSpPr>
        <p:pic>
          <p:nvPicPr>
            <p:cNvPr id="65" name="Picture 2" descr="C:\Users\BSFX\Desktop\u=1712739532,4269142549&amp;fm=21&amp;gp=0.jpg"/>
            <p:cNvPicPr/>
            <p:nvPr/>
          </p:nvPicPr>
          <p:blipFill>
            <a:blip r:embed="rId3"/>
            <a:stretch/>
          </p:blipFill>
          <p:spPr>
            <a:xfrm>
              <a:off x="317520" y="620640"/>
              <a:ext cx="2166840" cy="19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11"/>
            <p:cNvSpPr/>
            <p:nvPr/>
          </p:nvSpPr>
          <p:spPr>
            <a:xfrm>
              <a:off x="1181880" y="2164320"/>
              <a:ext cx="12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Ocean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5"/>
          <p:cNvGrpSpPr/>
          <p:nvPr/>
        </p:nvGrpSpPr>
        <p:grpSpPr>
          <a:xfrm>
            <a:off x="2976480" y="189000"/>
            <a:ext cx="2314800" cy="2863800"/>
            <a:chOff x="2976480" y="189000"/>
            <a:chExt cx="2314800" cy="2863800"/>
          </a:xfrm>
        </p:grpSpPr>
        <p:pic>
          <p:nvPicPr>
            <p:cNvPr id="68" name="Picture 3" descr="C:\Users\BSFX\Desktop\u=1710862948,830043626&amp;fm=23&amp;gp=0.jpg"/>
            <p:cNvPicPr/>
            <p:nvPr/>
          </p:nvPicPr>
          <p:blipFill>
            <a:blip r:embed="rId5"/>
            <a:stretch/>
          </p:blipFill>
          <p:spPr>
            <a:xfrm>
              <a:off x="3042360" y="189000"/>
              <a:ext cx="2116440" cy="26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12"/>
            <p:cNvSpPr/>
            <p:nvPr/>
          </p:nvSpPr>
          <p:spPr>
            <a:xfrm>
              <a:off x="2976480" y="2593080"/>
              <a:ext cx="23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Calibri"/>
                </a:rPr>
                <a:t>South Ame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4"/>
          <p:cNvGrpSpPr/>
          <p:nvPr/>
        </p:nvGrpSpPr>
        <p:grpSpPr>
          <a:xfrm>
            <a:off x="5796000" y="333360"/>
            <a:ext cx="3095640" cy="2336040"/>
            <a:chOff x="5796000" y="333360"/>
            <a:chExt cx="3095640" cy="2336040"/>
          </a:xfrm>
        </p:grpSpPr>
        <p:pic>
          <p:nvPicPr>
            <p:cNvPr id="71" name="Picture 4" descr="C:\Users\BSFX\Desktop\u=373703071,501121091&amp;fm=23&amp;gp=0.jpg"/>
            <p:cNvPicPr/>
            <p:nvPr/>
          </p:nvPicPr>
          <p:blipFill>
            <a:blip r:embed="rId6"/>
            <a:stretch/>
          </p:blipFill>
          <p:spPr>
            <a:xfrm>
              <a:off x="5796000" y="333360"/>
              <a:ext cx="3095640" cy="22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矩形 13"/>
            <p:cNvSpPr/>
            <p:nvPr/>
          </p:nvSpPr>
          <p:spPr>
            <a:xfrm>
              <a:off x="5796000" y="2148840"/>
              <a:ext cx="10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alibri"/>
                </a:rPr>
                <a:t>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8"/>
          <p:cNvGrpSpPr/>
          <p:nvPr/>
        </p:nvGrpSpPr>
        <p:grpSpPr>
          <a:xfrm>
            <a:off x="0" y="3284640"/>
            <a:ext cx="2313000" cy="2518200"/>
            <a:chOff x="0" y="3284640"/>
            <a:chExt cx="2313000" cy="2518200"/>
          </a:xfrm>
        </p:grpSpPr>
        <p:pic>
          <p:nvPicPr>
            <p:cNvPr id="74" name="Picture 5" descr="C:\Users\BSFX\Desktop\u=3100718145,1378726391&amp;fm=23&amp;gp=0.jpg"/>
            <p:cNvPicPr/>
            <p:nvPr/>
          </p:nvPicPr>
          <p:blipFill>
            <a:blip r:embed="rId7"/>
            <a:srcRect l="0" t="0" r="0" b="4460"/>
            <a:stretch/>
          </p:blipFill>
          <p:spPr>
            <a:xfrm>
              <a:off x="185040" y="3284640"/>
              <a:ext cx="2080440" cy="199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矩形 17"/>
            <p:cNvSpPr/>
            <p:nvPr/>
          </p:nvSpPr>
          <p:spPr>
            <a:xfrm>
              <a:off x="0" y="528228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alibri"/>
                </a:rPr>
                <a:t>NorthAmeric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20"/>
          <p:cNvGrpSpPr/>
          <p:nvPr/>
        </p:nvGrpSpPr>
        <p:grpSpPr>
          <a:xfrm>
            <a:off x="2511360" y="3789360"/>
            <a:ext cx="2127240" cy="2481840"/>
            <a:chOff x="2511360" y="3789360"/>
            <a:chExt cx="2127240" cy="2481840"/>
          </a:xfrm>
        </p:grpSpPr>
        <p:pic>
          <p:nvPicPr>
            <p:cNvPr id="77" name="Picture 6" descr="C:\Users\BSFX\Desktop\u=753850862,1700498793&amp;fm=23&amp;gp=0.jpg"/>
            <p:cNvPicPr/>
            <p:nvPr/>
          </p:nvPicPr>
          <p:blipFill>
            <a:blip r:embed="rId8"/>
            <a:srcRect l="0" t="0" r="0" b="4850"/>
            <a:stretch/>
          </p:blipFill>
          <p:spPr>
            <a:xfrm>
              <a:off x="2511360" y="3789360"/>
              <a:ext cx="2127240" cy="196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矩形 19"/>
            <p:cNvSpPr/>
            <p:nvPr/>
          </p:nvSpPr>
          <p:spPr>
            <a:xfrm>
              <a:off x="2511360" y="5750640"/>
              <a:ext cx="132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alibri"/>
                </a:rPr>
                <a:t>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22"/>
          <p:cNvGrpSpPr/>
          <p:nvPr/>
        </p:nvGrpSpPr>
        <p:grpSpPr>
          <a:xfrm>
            <a:off x="6672960" y="4005360"/>
            <a:ext cx="2471040" cy="2528280"/>
            <a:chOff x="6672960" y="4005360"/>
            <a:chExt cx="2471040" cy="2528280"/>
          </a:xfrm>
        </p:grpSpPr>
        <p:pic>
          <p:nvPicPr>
            <p:cNvPr id="80" name="Picture 8" descr="C:\Users\BSFX\Desktop\u=1014056186,2854339659&amp;fm=21&amp;gp=0.jpg"/>
            <p:cNvPicPr/>
            <p:nvPr/>
          </p:nvPicPr>
          <p:blipFill>
            <a:blip r:embed="rId9"/>
            <a:srcRect l="0" t="0" r="0" b="4673"/>
            <a:stretch/>
          </p:blipFill>
          <p:spPr>
            <a:xfrm>
              <a:off x="6765840" y="4005360"/>
              <a:ext cx="2378160" cy="20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矩形 21"/>
            <p:cNvSpPr/>
            <p:nvPr/>
          </p:nvSpPr>
          <p:spPr>
            <a:xfrm>
              <a:off x="6672960" y="6013080"/>
              <a:ext cx="16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alibri"/>
                </a:rPr>
                <a:t>Antarct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65D4-83F9-4247-A62C-9CCE9B2C13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内容占位符 3"/>
          <p:cNvGrpSpPr/>
          <p:nvPr/>
        </p:nvGrpSpPr>
        <p:grpSpPr>
          <a:xfrm>
            <a:off x="1316160" y="1341360"/>
            <a:ext cx="7326360" cy="5477040"/>
            <a:chOff x="1316160" y="1341360"/>
            <a:chExt cx="7326360" cy="5477040"/>
          </a:xfrm>
        </p:grpSpPr>
        <p:pic>
          <p:nvPicPr>
            <p:cNvPr id="85" name="Picture 5" descr="C:\Users\BSFX\Desktop\u=3100718145,1378726391&amp;fm=23&amp;gp=0.jpg"/>
            <p:cNvPicPr/>
            <p:nvPr/>
          </p:nvPicPr>
          <p:blipFill>
            <a:blip r:embed="rId2"/>
            <a:srcRect l="0" t="0" r="0" b="4460"/>
            <a:stretch/>
          </p:blipFill>
          <p:spPr>
            <a:xfrm>
              <a:off x="1324080" y="1341360"/>
              <a:ext cx="7185600" cy="547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矩形 5"/>
            <p:cNvSpPr/>
            <p:nvPr/>
          </p:nvSpPr>
          <p:spPr>
            <a:xfrm>
              <a:off x="1316160" y="5819040"/>
              <a:ext cx="7326360" cy="916920"/>
            </a:xfrm>
            <a:prstGeom prst="rect">
              <a:avLst/>
            </a:prstGeom>
            <a:solidFill>
              <a:srgbClr val="0000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Calibri"/>
                </a:rPr>
                <a:t>Lesson 42 North America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8"/>
          <p:cNvSpPr/>
          <p:nvPr/>
        </p:nvSpPr>
        <p:spPr>
          <a:xfrm>
            <a:off x="2268360" y="5950080"/>
            <a:ext cx="6588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34151"/>
          <p:cNvSpPr/>
          <p:nvPr/>
        </p:nvSpPr>
        <p:spPr>
          <a:xfrm>
            <a:off x="1225800" y="69372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冀教版　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FB77-A7F9-42B2-89A5-3B404C347F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92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606600" y="2133720"/>
            <a:ext cx="8353080" cy="280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4" name="圆角矩形 6"/>
          <p:cNvSpPr/>
          <p:nvPr/>
        </p:nvSpPr>
        <p:spPr>
          <a:xfrm>
            <a:off x="1800360" y="189000"/>
            <a:ext cx="536400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Listen and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F9A5-AE4A-4C5F-8121-B2E0DEF7D9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98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384120" y="836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has a larger population, Canada or Mex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915840" y="2421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84120" y="3357720"/>
            <a:ext cx="93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the third most common language in Ca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849240" y="4508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inese is the third most commo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90E8-9589-433A-B872-807257065F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51:17Z</dcterms:created>
  <dc:creator> </dc:creator>
  <dc:description> </dc:description>
  <dc:language>en-US</dc:language>
  <cp:lastModifiedBy>Administrator</cp:lastModifiedBy>
  <dcterms:modified xsi:type="dcterms:W3CDTF">2019-01-02T02:52:10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